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TYPE.WAV" ContentType="audio/x-wav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9.jpeg" ContentType="image/jpe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C71D0-0395-4E5C-A354-11A201163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Citizenship" TargetMode="External"/><Relationship Id="rId2" Type="http://schemas.openxmlformats.org/officeDocument/2006/relationships/hyperlink" Target="http://en.wikipedia.org/wiki/Settler_%28disambiguation%29" TargetMode="External"/><Relationship Id="rId3" Type="http://schemas.openxmlformats.org/officeDocument/2006/relationships/slide" Target="../slides/slide9.xml"/><Relationship Id="rId4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occurs in small popu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a natural disas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st f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use of genetic drift attributable to colonization by a limited number of individuals from a parent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of genetic drift resulting from a reduction in population (natural disaster) such that the surviving population is no longer genetically representative of the original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exchange due to the migration of fertile individuals or gametes between populations (reduces differences between popul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ing without regard to genetic make-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tation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hange in an organism’s D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combination in the dipl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ossing-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dependent assortment of all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tion: Formation of a new species (related to its ancestral spec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graph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patric (of different countries) &gt; isl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log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patric (of same country) (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o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ing sea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s don’t fi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ve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zygot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sperm and egg do not conn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st zygot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sperm and egg join, but won’t implant in the ut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erile you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offspring develops, but is ster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m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ing dances and courtship behav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biologist hypothesize that major environmental changes have had tremendous impact on the formation of new species.  These scientist believe that evolution occurs in spur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ne pool – total genetic information available in a popul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lele frequency tends to remain the same from generation to generation unless acted upon by an outside for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llection of individuals of the same species that routinely interbreed ( living in the same loc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 Flow- moving genes from population to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tion implies long-term permanent residence (and often eventual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itizenshi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by the immigr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igr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the act and the phenomenon of leaving one's native country to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ett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n another count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8FC8-44DA-4DE8-BC20-95EC39466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E09E-4000-4354-83A0-84B835C9D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B091-FDB8-4486-A651-0557B4006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2D36-0599-4B66-B29A-96C6DE607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68413-BE31-4136-960F-6830C7D2C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E3557-F5C1-49C7-AC64-01E45EAB4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04D31-38B1-488B-98E9-508309E48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FAB58-604B-4CE5-AF87-A073D2646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BC271-28BD-4550-B799-DFEEB8BEA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041A5-1BB1-4F55-BA5A-7DDC7940E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2B177-D367-4A3E-96C1-606B4736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27BC-BA96-4DB8-9C78-2E346B7F4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E0DA3-60DC-4DC6-BD9C-A392263D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78294-8117-4D3A-AE19-55D38F7E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2C308-8D57-4356-9F58-C12C81068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75855-BB35-4197-AAA0-92CC89517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8FB97-ACCF-4E94-A941-FB00C672D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AC82-C316-4162-9BF9-0EF9706A5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55EF-AEBF-4269-BF2E-90B317ECC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C4FC-AEA3-4E2E-B70F-A7316A718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3EAE-6A60-48EF-BA69-0BB3E3BE1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1939-CBEE-4323-A596-8D436321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E6EB-57ED-434D-8C52-6DFE9E44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235D-D479-4887-8F0B-1FECDF08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20421-A0DD-4F08-9F57-56AADAC760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73EFA-546D-4F40-B6BE-8C81AC3D88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8.xml"/><Relationship Id="rId10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9144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EVOLUTION OF POPUL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09480" y="4952880"/>
            <a:ext cx="1295640" cy="9892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2666880" y="4267080"/>
            <a:ext cx="2403720" cy="18338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5486400" y="3733920"/>
            <a:ext cx="3276720" cy="2500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. Genetic Drif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e in the allele frequency as a result of random events or ch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nder Eff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tleneck Eff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4419720" y="1905120"/>
            <a:ext cx="4495680" cy="35812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4114800" y="5791320"/>
            <a:ext cx="464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 the smallest population allele frequency reaches 0 after the 45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generation = no vari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under Eff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850760"/>
            <a:ext cx="37926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ounder Effec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4410000" y="1935000"/>
          <a:ext cx="4035600" cy="3272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10000" y="1935000"/>
                    <a:ext cx="4035600" cy="32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ottleneck Eff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he Bottleneck Effec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4653000" y="1768320"/>
            <a:ext cx="4033800" cy="385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. Gene Flo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ene Flo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5054760" y="1600200"/>
            <a:ext cx="323028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5. Non-random Ma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dom Mating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times mating selection is often influenced by geographic proxim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animals do not mate random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4724280" y="2209680"/>
            <a:ext cx="4038840" cy="26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xual Selec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6. NATURAL SELEC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species have genetic vari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vironment presents many challe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ganisms tend to produce more offspring than the environment can support - competition ( struggle for surviv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individuals are better suited to cope with the challenges ( survival of fittes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acteristics best suited to environment tend to increase in 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opulation over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TABALIZING SELEC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viduals with the average form are of a trait have the highest fit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952880" y="1295280"/>
            <a:ext cx="3200400" cy="22179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838080" y="4648320"/>
            <a:ext cx="6400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xamp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.  Birth weight in offsp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.  Seed 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RECTIONAL SELEC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requency of one allele tends to move in one direction   (more of one of the extremes forms of the tra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03480" y="4613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5181480" y="1523880"/>
            <a:ext cx="3111480" cy="28195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914400" y="495288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ample – tongue length in antea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Disruptive Selecti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457200" y="1325520"/>
            <a:ext cx="4191120" cy="28400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1066680" y="4419720"/>
            <a:ext cx="3235320" cy="218916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dividuals with either extreme have an advantage over individuals with the average form of the tra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:  Limpet shell colo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causes variatio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0384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combination in the diplo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876920" y="2819520"/>
          <a:ext cx="2057400" cy="156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819520"/>
                    <a:ext cx="205740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5334120" y="4952880"/>
            <a:ext cx="2035080" cy="16351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457200" y="16765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uta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4920" y="4843440"/>
            <a:ext cx="4572000" cy="19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andom fusion of game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ert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ECIES FORMATION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gins with geographic iso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s in reproductive iso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tion occu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3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3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3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3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3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3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6019920" y="2286000"/>
            <a:ext cx="2743200" cy="19335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4668840"/>
            <a:ext cx="2919240" cy="21891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CHANISM FOR REPRODUCTIVE ISOL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362320" y="1371600"/>
            <a:ext cx="44956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ographical iso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ological iso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mporal iso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chanical iso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roductive fail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havioral Iso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ow does evolution/speciation occur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DUAL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dual process that goes on all the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NCTUATED EQUILIBRI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iods of rapid change are separated by periods of little or no ch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2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20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MICROEVOLUTION </a:t>
            </a:r>
            <a:br>
              <a:rPr sz="6000"/>
            </a:b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LEADS TO </a:t>
            </a:r>
            <a:br>
              <a:rPr sz="6000"/>
            </a:b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MACROEVOLU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981080" y="228600"/>
            <a:ext cx="5505480" cy="48434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28600" y="525780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5334120"/>
            <a:ext cx="9144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e pool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lele frequency tends to remain the same from generation to generation unless acted upon by an outside force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PULATION GENETIC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y of evolution from a genetic point of 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a popul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pecies is a naturally breeding group of organisms that produce fertile offspr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opulation is the smallest in which evolution occu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rdy-Weinberg Equilibriu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llele frequency in a population can be calculated using the Hardy-Weinberg equ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equation states that all of the allele combination must add to ONE (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minate alleles + recessive alleles =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 + q =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requency of the heterozygote may also be calcu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Hardy-Weinberg Equilibriu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umes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volution occu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5 conditions must be me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never happen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is a model or a yardstick to measure how much a population or species has evolv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4986360" y="1600200"/>
            <a:ext cx="3360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ardy-Weinberg Equilibrium  Condi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net mu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mig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rge population 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ing is rand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ural selection does not occ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sruption of Genetic Equilibriu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g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tic Dri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 F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 Random Ma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ural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. MIGR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 flow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3733920" y="3581280"/>
            <a:ext cx="487656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9T12:59:38Z</dcterms:created>
  <dc:creator>Room 157</dc:creator>
  <dc:description/>
  <dc:language>en-US</dc:language>
  <cp:lastModifiedBy>Tricia</cp:lastModifiedBy>
  <dcterms:modified xsi:type="dcterms:W3CDTF">2007-04-22T22:47:24Z</dcterms:modified>
  <cp:revision>4</cp:revision>
  <dc:subject/>
  <dc:title>Slide 1</dc:title>
</cp:coreProperties>
</file>